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1F1F-7136-4339-ACD8-61E4E9C64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8F74-F71E-4F5F-A068-402012FC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BC67-723D-4E3C-AA4C-0B02655F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949C-32E3-4003-9DB2-157B7D10D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2730-C666-4664-9E78-17D7FC0C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7076-A310-4853-A0F8-5AD65A58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F31E-3BB8-46C9-A725-1778E58C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6F28-6FE0-4E6B-AD9F-BB602A95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4DDD-BE27-4BD8-AF72-9A811BFF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9334-2E75-4AA6-A99A-EB7EB58B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FBA1-DCE1-47BE-87A6-01ADEBF7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8F91-38A9-4EDC-AC9C-394B9B8B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CECA-373E-4B95-91D9-3800805A725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nglishdom.com/" TargetMode="External"/><Relationship Id="rId2" Type="http://schemas.openxmlformats.org/officeDocument/2006/relationships/hyperlink" Target="https://www.englishdom.com/blog/25-interesnyx-zhurnalov-na-anglijskom-yazyke/" TargetMode="External"/><Relationship Id="rId3" Type="http://schemas.openxmlformats.org/officeDocument/2006/relationships/hyperlink" Target="https://www.englishdom.com/blog/podborka-sajtov-dlya-chteniya-na-anglijskom/" TargetMode="External"/><Relationship Id="rId4" Type="http://schemas.openxmlformats.org/officeDocument/2006/relationships/hyperlink" Target="https://www.englishdom.com/blog/rekomendacii-kak-ispolzovat-socialnye-seti-dlya-izucheniya-anglijskogo/" TargetMode="External"/><Relationship Id="rId5" Type="http://schemas.openxmlformats.org/officeDocument/2006/relationships/hyperlink" Target="https://www.englishdom.com/blog/podborka-memov-na-anglijskom/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uzzle-english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08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22 апреля 2021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В</a:t>
            </a: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ебинар- консультация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«Предметная компетенция учителя английского языка: анализ результатов выполнения задания №1</a:t>
            </a:r>
            <a:br>
              <a:rPr sz="2800"/>
            </a:b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егиональный проект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«Образовательный лифт: ШНОР»-2021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Предметная группа : учителя английского языка общеобразовательных учреждений Пермского края</a:t>
            </a: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. 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(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Группа </a:t>
            </a:r>
            <a:r>
              <a:rPr b="1" lang="en-US" sz="1800" spc="-1" strike="noStrike">
                <a:solidFill>
                  <a:srgbClr val="c00000"/>
                </a:solidFill>
                <a:latin typeface="Arial Narrow"/>
              </a:rPr>
              <a:t>B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2-С2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)</a:t>
            </a: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уководитель группы: Тихомирова О.А., снс  отдела научно-методического сопровождения общего образования 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ГАУ ДПО ИРО ПК 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oat_poipkro@mail.r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комендации для тренировки навыков ч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е чтение (15-20 минут в день) поможет расширить словарный запас, усвоить грамматические структуры, развить умение догадываться о значении слова из контекста. Читать нужно в особенности тем, кто лучше воспринимает информацию зритель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www.englishdom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П 10 сайтов для тренировки навыков чтения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3d464a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логе выходили стать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ТОП журналов на английс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ТОП сайтов для чтения книг разного уровня сло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Как учить английский в социальных се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Английский по мем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комендации для тренировки 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лексико- грамматических 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уемся на кодификатор  ЕГЭ-2021- раздел «Грамматическая сторона  речи », пункты 3.3.1.-3.3.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 современные пособия, 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11280" y="1919160"/>
            <a:ext cx="8064360" cy="2087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6300720" y="4113360"/>
            <a:ext cx="2374920" cy="2411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3502080" y="4113360"/>
            <a:ext cx="2556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Типология заданий для самостоятельной работы педаг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Предметн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: Выполнение заданий по аудированию, чтению, переводу, письменной и устной(?)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I.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Методическ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Выполнение заданий по методике проектирования уроков/занятий, использовании  оптимальных приемов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II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Психолого- педагогическ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Анализ педагогических ситуаций  в образовательном проце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Задание №2. Методическая компетент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ы получите  на электронную почту записи двух уро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глийского языка, участников регионального конкурса «Учител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а- 2021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№1 представлен учителем английского языка МБОУ № 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Чайковс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Чирковой Елизаветой Игоре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№2 представлен учителем английского языка  МАО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Ш № 87 г. Перм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Щипициным Александром Александрович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Ваша задача - посмотреть оба урока и их краткий анализ, затем выбрать один урок из двух предложенных и  ответить на вопросы по методическому сопровождению урока, которые также будут отправлены вам на почту вместе с записями уро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рок выполнения задания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20 мая 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Региональный семинар для участников проекта «Образовательный лифт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: «Формирование у обучающихся мотивации к изучению иностранного языка: проблемы и реш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проведения: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9 апреля 202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проведения: МАОУ «СОШ № 65 с углубленным изучением английского язы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с: г. Пермь, ул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овоградская, д.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 мероприятия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ончание мероприятия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роприятие проводится с соблюдением масочного режим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План мероприятий проекта ОЛ- ШН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268280"/>
          <a:ext cx="8229600" cy="5329440"/>
        </p:xfrm>
        <a:graphic>
          <a:graphicData uri="http://schemas.openxmlformats.org/drawingml/2006/table">
            <a:tbl>
              <a:tblPr/>
              <a:tblGrid>
                <a:gridCol w="3251160"/>
                <a:gridCol w="2951280"/>
                <a:gridCol w="2027160"/>
              </a:tblGrid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Меро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очный семинар/ вебин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ы 1,2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.03.2021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ебинар-консультация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4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5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межуточн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.08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.08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ая конференция по проект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ябрь 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Примерный формат итоговых работ участников </a:t>
            </a:r>
            <a:br>
              <a:rPr sz="2400"/>
            </a:b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проекта «Образовательный лифт:ШНОР-21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112536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1. Разработать систему разноуровневых заданий к блокам КИМ ВПР, ГИА, вызывающим наибольшие затруднения у обучаю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2. Разработать программу для самостоятельного повторения  материала и самоконтроля по предмету с использованием возможностей сети Интернет: образовательных платформ, сайтов, сообществ, отдельных ЦОР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3. Разработать программу внеурочной деятельности/ спецкурса/кружка/ др, направленную на повышение образовательного результата на уровне начального/ основного/ среднего образ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4.  Описать обобщение  своего педагогического опыта по подготовке учащихся к  различным  внешним оценочным процедур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5.  Представить систему обучения учащихся с низким уровнем языковой подготовки и мотивации к изучению английского язы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6.  Представить систему удаленного обучения(на примере собственного опы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7.Друг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Задание: определиться с темой своей выпускной работы и сообщить название работы до 20 мая 2021 г.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СОСТАВ </a:t>
            </a:r>
            <a:r>
              <a:rPr b="1" lang="en-US" sz="2400" spc="-1" strike="noStrike">
                <a:solidFill>
                  <a:srgbClr val="374c8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ГРУППЫ ( </a:t>
            </a:r>
            <a:r>
              <a:rPr b="1" lang="en-US" sz="2400" spc="-1" strike="noStrike">
                <a:solidFill>
                  <a:srgbClr val="374c81"/>
                </a:solidFill>
                <a:latin typeface="Arial"/>
              </a:rPr>
              <a:t>B2-C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9280" y="44280"/>
          <a:ext cx="8785440" cy="6796080"/>
        </p:xfrm>
        <a:graphic>
          <a:graphicData uri="http://schemas.openxmlformats.org/drawingml/2006/table">
            <a:tbl>
              <a:tblPr/>
              <a:tblGrid>
                <a:gridCol w="360360"/>
                <a:gridCol w="1871640"/>
                <a:gridCol w="1873440"/>
                <a:gridCol w="431640"/>
                <a:gridCol w="2303640"/>
                <a:gridCol w="194472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ександрова Татьян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3 Горнозавод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Канисева Елена Александ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МБОУ Ашапская СОШ Ордин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рецкая  Марина Геннад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р.п.Паш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Коржавина Наталья Игор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МБОУ Орд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бурова Инн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р.п.Паш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Крупнова Софья Ю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Серебрякова Анна Евген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 СОШ №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СОШ 18 г. Кунгу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Белозерова Людмила Ю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СОШ №1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лых Анастасия Павл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 СОШ №1 г. Кунгу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5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Политова Татьяна Андр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ОСОШ №1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еремных Ольг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БОУ ДООШ №1 КШ г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бря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Тимошенко Наталья Витал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ОСОШ №2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Некрасова Людмил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МАОУ СОШ №60 г. Перм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222268"/>
                          </a:solidFill>
                          <a:uFillTx/>
                          <a:latin typeface="Arial"/>
                        </a:rPr>
                        <a:t>Шафранова Диана Викто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222268"/>
                          </a:solidFill>
                          <a:uFillTx/>
                          <a:latin typeface="Arial"/>
                        </a:rPr>
                        <a:t>С.П. Кипринская школа-детский сад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Опишнян Елена Геннад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МАОУ Рябининская СОШ Чердынский  р-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0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Габдукаева Алина Рамил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Березниковская СОШ им. М.Г. Имашева Бардым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антелеева Наталья Игор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№16 г. Соликам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Джумалиева Евгения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БОУ СОШ №16 с уиоп г. Лысь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1e4649"/>
                          </a:solidFill>
                          <a:uFillTx/>
                          <a:latin typeface="Arial"/>
                        </a:rPr>
                        <a:t>Заварыкина Татьяна Вале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1e4649"/>
                          </a:solidFill>
                          <a:uFillTx/>
                          <a:latin typeface="Arial"/>
                        </a:rPr>
                        <a:t>МАОУ Юго-Камская СОШ Перм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Фахртдинова Динара Вахит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БОУ СОШ №16 с уиоп г. Лысь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Штернберг Арина Ильинич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МАОУ Са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Жужгина Елена Анатол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15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Первакова Екатерин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МБОУ Си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ускова Марин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2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Селиверстова Любовь Римов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МБОУ Си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ихсиева Лариса Ислам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15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дилова Людмил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БОУ СОШ №11 г. Краснокам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Users\Tihomirova-OA\Downloads\b335b97551f9f797b1e88637e8323ec4.jpeg"/>
          <p:cNvPicPr/>
          <p:nvPr/>
        </p:nvPicPr>
        <p:blipFill>
          <a:blip r:embed="rId1"/>
          <a:stretch/>
        </p:blipFill>
        <p:spPr>
          <a:xfrm>
            <a:off x="0" y="412920"/>
            <a:ext cx="9144000" cy="64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Уровень В2 (Пороговый продвинутый урове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83628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развернутые доклады и лекции и содержащуюся в них даже сложную аргументацию, если тематика этих выступлений мне достаточно знакома. Я понимаю почти все новости и репортажи о текущих событиях. Я понимаю содержание большинства фильмов, если их герои говорят на литературном язы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статьи и сообщения по современной проблематике, авторы которых занимают особую позицию или высказывают особую точку зрения. Я понимаю современную художественную проз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без подготовки довольно свободно участвовать в диалогах с носителями изучаемого языка. Я умею принимать активное участие в дискуссии по знакомой мне проблеме, обосновывать и отстаивать свою точку зр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н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огу понятно и обстоятельно высказываться по широкому кругу интересующих меня вопросов. Я могу объяснить свою точку зрения по актуальной проблеме, высказывая все аргументы «за» и «проти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писать понятные подробные сообщения по широкому кругу интересующих меня вопросов. Я умею писать эссе или доклады, освещая вопросы или аргументируя точку зрения «за» или «против». Я умею писать письма, выделяя те события и впечатления, которые являются для меня особо важн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Уровень С1(Уровень профессионального владения) 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907560"/>
            <a:ext cx="8712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развернутые сообщения, даже если они имеют нечеткую логическую структуру и недостаточно выраженные смысловые связи. Я почти свободно понимаю все телевизионные программы и филь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большие сложные нехудожественные и художественные тексты, их стилистические особенности. Я понимаю также специальные статьи и технические инструкции большого объема, даже если они не касаются сферы мое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спонтанно и бегло, не испытывая трудностей в подборе слов, выражать свои мысли. Моя речь отличается разнообразием языковых средств и точностью их употребления в ситуациях профессионального и повседневного общения. Я умею точно формулировать свои мысли и выражать свое мнение, а также активно поддерживать любую бесе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н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понятно и обстоятельно излагать сложные темы, объединять в единое целое составные части, развивать отдельные положения и делать соответствующие выв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четко и логично выражать свои мысли в письменной форме и подробно .освещать свои взгляды. Я умею подробно излагать в письмах, сочинениях, докладах сложные проблемы, выделяя то, что мне представляется наиболее важным. Я умею использовать языковой стиль, соответствующий предполагаемому адреса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C2 (Уровень владения в совершенстве) 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вободно понимаю любую разговорную речь при непосредственно или опосредованном общении. Я свободно понимаю речь носителя языка, говорящего в быстром темпе, если у меня есть возможность привыкнуть к индивидуальным особенностям его произнош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вободно понимаю все типы текстов, включая тексты абстрактного характера, сложные в композиционном или языковом отношении: инструкции, специальные статьи и художественные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огу свободно участвовать в любом разговоре или дискуссии, владею разнообразными идиоматическими и разговорными выражениями. Я бегло высказываюсь и умею выражать любые оттенки значения. Если у меня возникают трудности в использовании языковых средств, я умею быстро и незаметно для окружающих перефразировать свое высказы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ло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бегло свободно и аргументированно высказываться, используя соответствующие языковые средства в зависимости от ситуации. Я умею логически построить свое сообщение таким образом, чтобы привлечь внимание слушателей и помочь им отметить и запомнить наиболее важные поло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логично и последовательно выражать свои мысли в письменной форме, используя при этом необходимые языковые средства. Я умею писать сложные письма, отчеты, доклады или статьи, которые имеют четкую логическую структуру, помогающую адресату отметить и запомнить наиболее важные моменты. Я умею писать резюме и рецензии как на работы профессионального характера, так и на художественные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Спецификация задания №1 ( Предметная компетент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1341360"/>
          <a:ext cx="8229600" cy="4824360"/>
        </p:xfrm>
        <a:graphic>
          <a:graphicData uri="http://schemas.openxmlformats.org/drawingml/2006/table">
            <a:tbl>
              <a:tblPr/>
              <a:tblGrid>
                <a:gridCol w="935280"/>
                <a:gridCol w="2736720"/>
                <a:gridCol w="1440000"/>
                <a:gridCol w="1295280"/>
                <a:gridCol w="1822320"/>
              </a:tblGrid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здел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ол-во задан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Мах.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Тип зад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диро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9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и письм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, 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ка и лекс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зультаты выполнения задания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В составе группы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2-C1)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27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ено  27 работ.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(100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Справились со всеми заданиями 24 педагога.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(89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92%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ей справились с заданиями раздела «Аудирование» ( 25 из 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00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чителей, выполнявших работу, справились с заданиями в разделах «Чтение» и «Грамматика и лекс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92%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ей справились с заданиями раздела «Письмо» ( 25 из 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4704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Основные рекомендации для тренировки навыков ауд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8000" y="836640"/>
            <a:ext cx="8856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 слушать  различные аудиоматериалы: аудиоуроки, подкасты, песни, фильмы и сериалы на английском языке (ориентируйтесь на свой уровень знаний). Главное — подобрать увлекательный для себя материал. Попробуйте пробудить в себе интере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регулярным занятиям, тогда заниматься им будет намного проще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www.puzzle-english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6-02T09:15:01Z</dcterms:modified>
  <cp:revision>884</cp:revision>
  <dc:subject/>
  <dc:title>Diapositiva 1</dc:title>
</cp:coreProperties>
</file>